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4.png" ContentType="image/png"/>
  <Override PartName="/ppt/media/image2.png" ContentType="image/png"/>
  <Override PartName="/ppt/media/image3.png" ContentType="image/png"/>
  <Override PartName="/ppt/media/image5.pct" ContentType="image/x-pict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37A-5669-47B1-8D61-F91AF714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DC6B-1375-49D4-A2A6-0D7A1C19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10F-C4F1-4742-B70C-8673A0CE5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4EBF-9535-4C72-B45D-0DF9BADE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078-3503-44C6-B027-77AF16BA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CE3-297E-4999-8D00-9320CF66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FD0-7108-415B-B565-3C8CEB62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BF4-482D-4422-8555-33D519A4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DC2-6671-429B-A330-584EA253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973-1823-45D7-AD7B-2AB4A64A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63C-5938-4D48-98AA-C1D1CAB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A598-C228-47C7-976A-84872B85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9573-FFC7-45CC-85C6-2AC3B5E91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tricamerica.com/SI-Metric/meter.wmv" TargetMode="External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952520" y="4495320"/>
            <a:ext cx="3581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son 1: Leng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962520"/>
            <a:ext cx="3962160" cy="2089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glish vs. 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6400800"/>
            <a:ext cx="533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eft Image: http://webapps.lsa.umich.edu/physics/demolab/controls/imagedemosm.aspx?picid=1167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ght Image: http://share.lancealan.com/N800%20ruler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066680"/>
            <a:ext cx="37335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is long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 1 mile or 1 kilo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1 yard or 1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1 inch or 1 cent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85800" y="1523880"/>
            <a:ext cx="7848360" cy="977760"/>
            <a:chOff x="685800" y="1523880"/>
            <a:chExt cx="7848360" cy="977760"/>
          </a:xfrm>
        </p:grpSpPr>
        <p:grpSp>
          <p:nvGrpSpPr>
            <p:cNvPr id="50" name=""/>
            <p:cNvGrpSpPr/>
            <p:nvPr/>
          </p:nvGrpSpPr>
          <p:grpSpPr>
            <a:xfrm>
              <a:off x="4952880" y="1523880"/>
              <a:ext cx="3581280" cy="977760"/>
              <a:chOff x="4952880" y="1523880"/>
              <a:chExt cx="3581280" cy="977760"/>
            </a:xfrm>
          </p:grpSpPr>
          <p:sp>
            <p:nvSpPr>
              <p:cNvPr id="51" name=""/>
              <p:cNvSpPr/>
              <p:nvPr/>
            </p:nvSpPr>
            <p:spPr>
              <a:xfrm>
                <a:off x="5981760" y="213336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.6 kilo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286320" y="1523880"/>
                <a:ext cx="9144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mi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952880" y="1904760"/>
                <a:ext cx="358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4952880" y="2103120"/>
                <a:ext cx="3581280" cy="0"/>
                <a:chOff x="4952880" y="2103120"/>
                <a:chExt cx="3581280" cy="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4952880" y="2103120"/>
                  <a:ext cx="19810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933960" y="2103120"/>
                  <a:ext cx="1600200" cy="0"/>
                </a:xfrm>
                <a:prstGeom prst="line">
                  <a:avLst/>
                </a:prstGeom>
                <a:ln w="7632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7" name=""/>
            <p:cNvSpPr/>
            <p:nvPr/>
          </p:nvSpPr>
          <p:spPr>
            <a:xfrm>
              <a:off x="685800" y="1600200"/>
              <a:ext cx="9907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1828800" y="2184480"/>
            <a:ext cx="6791400" cy="3898800"/>
            <a:chOff x="1828800" y="2184480"/>
            <a:chExt cx="6791400" cy="3898800"/>
          </a:xfrm>
        </p:grpSpPr>
        <p:grpSp>
          <p:nvGrpSpPr>
            <p:cNvPr id="59" name=""/>
            <p:cNvGrpSpPr/>
            <p:nvPr/>
          </p:nvGrpSpPr>
          <p:grpSpPr>
            <a:xfrm>
              <a:off x="5029200" y="3200400"/>
              <a:ext cx="3591000" cy="2882880"/>
              <a:chOff x="5029200" y="3200400"/>
              <a:chExt cx="3591000" cy="2882880"/>
            </a:xfrm>
          </p:grpSpPr>
          <p:pic>
            <p:nvPicPr>
              <p:cNvPr id="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029200" y="3200400"/>
                <a:ext cx="3591000" cy="2417760"/>
              </a:xfrm>
              <a:prstGeom prst="rect">
                <a:avLst/>
              </a:prstGeom>
              <a:ln w="28440">
                <a:solidFill>
                  <a:srgbClr val="000000"/>
                </a:solidFill>
                <a:miter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5452920" y="5715000"/>
                <a:ext cx="27432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yard = 0.9444 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1828800" y="2184480"/>
              <a:ext cx="121932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28600" y="2743200"/>
            <a:ext cx="4343400" cy="2997000"/>
            <a:chOff x="228600" y="2743200"/>
            <a:chExt cx="4343400" cy="2997000"/>
          </a:xfrm>
        </p:grpSpPr>
        <p:grpSp>
          <p:nvGrpSpPr>
            <p:cNvPr id="64" name=""/>
            <p:cNvGrpSpPr/>
            <p:nvPr/>
          </p:nvGrpSpPr>
          <p:grpSpPr>
            <a:xfrm>
              <a:off x="228600" y="3809880"/>
              <a:ext cx="4343400" cy="1930320"/>
              <a:chOff x="228600" y="3809880"/>
              <a:chExt cx="4343400" cy="1930320"/>
            </a:xfrm>
          </p:grpSpPr>
          <p:pic>
            <p:nvPicPr>
              <p:cNvPr id="65" name="" descr=""/>
              <p:cNvPicPr/>
              <p:nvPr/>
            </p:nvPicPr>
            <p:blipFill>
              <a:blip r:embed="rId2"/>
              <a:srcRect l="0" t="70003" r="0" b="0"/>
              <a:stretch/>
            </p:blipFill>
            <p:spPr>
              <a:xfrm>
                <a:off x="228600" y="3809880"/>
                <a:ext cx="4343400" cy="78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3"/>
              <a:srcRect l="0" t="3331" r="0" b="66672"/>
              <a:stretch/>
            </p:blipFill>
            <p:spPr>
              <a:xfrm>
                <a:off x="228600" y="4591080"/>
                <a:ext cx="4343400" cy="78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>
                <a:off x="990360" y="5371920"/>
                <a:ext cx="266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 inch = 2.54 centimet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533520" y="2743200"/>
              <a:ext cx="1218960" cy="4572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066680"/>
            <a:ext cx="8458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sic unit of length in the metric system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is represented by a lowercas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: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vel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absolute vacuum in 1⁄299,792,458 of a sec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2666880"/>
            <a:ext cx="6095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r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Kilometer (km) = 1000 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 Centimeters (c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eter = 1000 Millimeters (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 rot="1551000">
            <a:off x="2590560" y="2030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 rot="20427600">
            <a:off x="874440" y="131400"/>
            <a:ext cx="45720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k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 rot="20313600">
            <a:off x="6248520" y="2026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 rot="1338600">
            <a:off x="7924680" y="20448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80060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is larg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85800" y="5257800"/>
            <a:ext cx="7848720" cy="862560"/>
            <a:chOff x="685800" y="5257800"/>
            <a:chExt cx="7848720" cy="862560"/>
          </a:xfrm>
        </p:grpSpPr>
        <p:sp>
          <p:nvSpPr>
            <p:cNvPr id="79" name=""/>
            <p:cNvSpPr/>
            <p:nvPr/>
          </p:nvSpPr>
          <p:spPr>
            <a:xfrm>
              <a:off x="685800" y="5257800"/>
              <a:ext cx="388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. 1 meter or 105 cent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. 4 kilometers or 4400 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67080" y="5257800"/>
              <a:ext cx="426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. 12 centimeters or 102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. 1200 millimeters or 1 me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2133720" y="5283360"/>
            <a:ext cx="175248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5753160"/>
            <a:ext cx="144756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35360" y="5270400"/>
            <a:ext cx="1536840" cy="3812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35360" y="5715000"/>
            <a:ext cx="1765440" cy="3808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5200" y="2819520"/>
            <a:ext cx="1251000" cy="1177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62720" y="30481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he image to watch a short video about the me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asuring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6400800"/>
            <a:ext cx="533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ler: http://www.k12math.com/math-concepts/measurement/ruler-cm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0666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many millimeters are in 1 centimete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0107"/>
          <a:stretch/>
        </p:blipFill>
        <p:spPr>
          <a:xfrm>
            <a:off x="5029200" y="1066680"/>
            <a:ext cx="38386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304920" y="2819520"/>
            <a:ext cx="7772400" cy="3285000"/>
            <a:chOff x="304920" y="2819520"/>
            <a:chExt cx="7772400" cy="3285000"/>
          </a:xfrm>
        </p:grpSpPr>
        <p:sp>
          <p:nvSpPr>
            <p:cNvPr id="93" name=""/>
            <p:cNvSpPr/>
            <p:nvPr/>
          </p:nvSpPr>
          <p:spPr>
            <a:xfrm>
              <a:off x="304920" y="2819520"/>
              <a:ext cx="60958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centimeters? 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in millimeters? _______m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80880" y="3809880"/>
              <a:ext cx="3838680" cy="1211040"/>
              <a:chOff x="380880" y="3809880"/>
              <a:chExt cx="3838680" cy="1211040"/>
            </a:xfrm>
          </p:grpSpPr>
          <p:pic>
            <p:nvPicPr>
              <p:cNvPr id="95" name="" descr=""/>
              <p:cNvPicPr/>
              <p:nvPr/>
            </p:nvPicPr>
            <p:blipFill>
              <a:blip r:embed="rId2"/>
              <a:srcRect l="0" t="0" r="0" b="60107"/>
              <a:stretch/>
            </p:blipFill>
            <p:spPr>
              <a:xfrm>
                <a:off x="380880" y="3809880"/>
                <a:ext cx="3838680" cy="12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685800" y="3885840"/>
                <a:ext cx="2514600" cy="0"/>
              </a:xfrm>
              <a:prstGeom prst="line">
                <a:avLst/>
              </a:prstGeom>
              <a:ln w="7632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304920" y="5241960"/>
              <a:ext cx="77724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What is the length of the line to the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eares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centimeter? ________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INT:  Round to the nearest centimeter – no decima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04920" y="1066320"/>
            <a:ext cx="5943240" cy="1085040"/>
            <a:chOff x="304920" y="1066320"/>
            <a:chExt cx="5943240" cy="1085040"/>
          </a:xfrm>
        </p:grpSpPr>
        <p:sp>
          <p:nvSpPr>
            <p:cNvPr id="99" name=""/>
            <p:cNvSpPr/>
            <p:nvPr/>
          </p:nvSpPr>
          <p:spPr>
            <a:xfrm>
              <a:off x="304920" y="175248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 centimeter = 10 millime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5321160" y="1066320"/>
              <a:ext cx="927000" cy="228600"/>
              <a:chOff x="5321160" y="1066320"/>
              <a:chExt cx="927000" cy="228600"/>
            </a:xfrm>
          </p:grpSpPr>
          <p:sp>
            <p:nvSpPr>
              <p:cNvPr id="101" name=""/>
              <p:cNvSpPr/>
              <p:nvPr/>
            </p:nvSpPr>
            <p:spPr>
              <a:xfrm flipV="1">
                <a:off x="53211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V="1">
                <a:off x="6235560" y="1066320"/>
                <a:ext cx="0" cy="2286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3760" y="1066680"/>
                <a:ext cx="914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PSD</cp:lastModifiedBy>
  <dcterms:modified xsi:type="dcterms:W3CDTF">2009-09-23T12:53:16Z</dcterms:modified>
  <cp:revision>12</cp:revision>
  <dc:subject/>
  <dc:title>Slide 1</dc:title>
</cp:coreProperties>
</file>